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5B394-BEA7-4F7D-9ECF-654E183966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1FAC9-7499-46F0-96F6-5D623B5432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656B4-F3F4-4C66-A011-5AB8FF01A1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CB68A-E5BA-40D5-8882-6F9C2C3EA6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3"/>
          <p:cNvSpPr/>
          <p:nvPr/>
        </p:nvSpPr>
        <p:spPr>
          <a:xfrm>
            <a:off x="3886200" y="6248520"/>
            <a:ext cx="1523880" cy="457200"/>
          </a:xfrm>
          <a:custGeom>
            <a:avLst/>
            <a:gdLst>
              <a:gd name="textAreaLeft" fmla="*/ 29520 w 1523880"/>
              <a:gd name="textAreaRight" fmla="*/ 1494360 w 15238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1955" h="21600">
                <a:moveTo>
                  <a:pt x="0" y="0"/>
                </a:moveTo>
                <a:lnTo>
                  <a:pt x="71955" y="0"/>
                </a:lnTo>
                <a:lnTo>
                  <a:pt x="71955" y="21600"/>
                </a:lnTo>
                <a:lnTo>
                  <a:pt x="0" y="21600"/>
                </a:lnTo>
                <a:close/>
              </a:path>
              <a:path fill="lightenLess" w="71955" h="21600">
                <a:moveTo>
                  <a:pt x="0" y="0"/>
                </a:moveTo>
                <a:lnTo>
                  <a:pt x="71955" y="0"/>
                </a:lnTo>
                <a:lnTo>
                  <a:pt x="70555" y="1400"/>
                </a:lnTo>
                <a:lnTo>
                  <a:pt x="1400" y="1400"/>
                </a:lnTo>
                <a:close/>
              </a:path>
              <a:path fill="darken" w="71955" h="21600">
                <a:moveTo>
                  <a:pt x="71955" y="0"/>
                </a:moveTo>
                <a:lnTo>
                  <a:pt x="71955" y="21600"/>
                </a:lnTo>
                <a:lnTo>
                  <a:pt x="70555" y="20200"/>
                </a:lnTo>
                <a:lnTo>
                  <a:pt x="70555" y="1400"/>
                </a:lnTo>
                <a:close/>
              </a:path>
              <a:path fill="darkenLess" w="71955" h="21600">
                <a:moveTo>
                  <a:pt x="71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55" y="20200"/>
                </a:lnTo>
                <a:close/>
              </a:path>
              <a:path fill="lighten" w="71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Text Box 24"/>
          <p:cNvSpPr/>
          <p:nvPr/>
        </p:nvSpPr>
        <p:spPr>
          <a:xfrm>
            <a:off x="3962520" y="6248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AutoShape 26"/>
          <p:cNvSpPr/>
          <p:nvPr/>
        </p:nvSpPr>
        <p:spPr>
          <a:xfrm>
            <a:off x="228600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25"/>
          <p:cNvSpPr/>
          <p:nvPr/>
        </p:nvSpPr>
        <p:spPr>
          <a:xfrm>
            <a:off x="2362320" y="586728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AutoShape 29">
            <a:hlinkClick r:id="" action="ppaction://hlinkshowjump?jump=firstslide"/>
          </p:cNvPr>
          <p:cNvSpPr/>
          <p:nvPr/>
        </p:nvSpPr>
        <p:spPr>
          <a:xfrm>
            <a:off x="5562720" y="6248520"/>
            <a:ext cx="1447560" cy="457200"/>
          </a:xfrm>
          <a:custGeom>
            <a:avLst/>
            <a:gdLst>
              <a:gd name="textAreaLeft" fmla="*/ 29520 w 1447560"/>
              <a:gd name="textAreaRight" fmla="*/ 1418040 w 14475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52" h="21600">
                <a:moveTo>
                  <a:pt x="0" y="0"/>
                </a:moveTo>
                <a:lnTo>
                  <a:pt x="68352" y="0"/>
                </a:lnTo>
                <a:lnTo>
                  <a:pt x="68352" y="21600"/>
                </a:lnTo>
                <a:lnTo>
                  <a:pt x="0" y="21600"/>
                </a:lnTo>
                <a:close/>
              </a:path>
              <a:path fill="lightenLess" w="68352" h="21600">
                <a:moveTo>
                  <a:pt x="0" y="0"/>
                </a:moveTo>
                <a:lnTo>
                  <a:pt x="68352" y="0"/>
                </a:lnTo>
                <a:lnTo>
                  <a:pt x="66952" y="1400"/>
                </a:lnTo>
                <a:lnTo>
                  <a:pt x="1400" y="1400"/>
                </a:lnTo>
                <a:close/>
              </a:path>
              <a:path fill="darken" w="68352" h="21600">
                <a:moveTo>
                  <a:pt x="68352" y="0"/>
                </a:moveTo>
                <a:lnTo>
                  <a:pt x="68352" y="21600"/>
                </a:lnTo>
                <a:lnTo>
                  <a:pt x="66952" y="20200"/>
                </a:lnTo>
                <a:lnTo>
                  <a:pt x="66952" y="1400"/>
                </a:lnTo>
                <a:close/>
              </a:path>
              <a:path fill="darkenLess" w="68352" h="21600">
                <a:moveTo>
                  <a:pt x="68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52" y="20200"/>
                </a:lnTo>
                <a:close/>
              </a:path>
              <a:path fill="lighten" w="68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8352" h="21600">
                <a:moveTo>
                  <a:pt x="34176" y="3837"/>
                </a:moveTo>
                <a:lnTo>
                  <a:pt x="36752" y="6448"/>
                </a:lnTo>
                <a:lnTo>
                  <a:pt x="36752" y="4707"/>
                </a:lnTo>
                <a:lnTo>
                  <a:pt x="38528" y="4707"/>
                </a:lnTo>
                <a:lnTo>
                  <a:pt x="38528" y="8224"/>
                </a:lnTo>
                <a:lnTo>
                  <a:pt x="41139" y="10800"/>
                </a:lnTo>
                <a:lnTo>
                  <a:pt x="39485" y="10800"/>
                </a:lnTo>
                <a:lnTo>
                  <a:pt x="39485" y="17989"/>
                </a:lnTo>
                <a:lnTo>
                  <a:pt x="28867" y="17989"/>
                </a:lnTo>
                <a:lnTo>
                  <a:pt x="28867" y="10800"/>
                </a:lnTo>
                <a:lnTo>
                  <a:pt x="27213" y="10800"/>
                </a:lnTo>
                <a:close/>
              </a:path>
              <a:path fill="darkenLess" w="68352" h="21600">
                <a:moveTo>
                  <a:pt x="36752" y="6448"/>
                </a:moveTo>
                <a:lnTo>
                  <a:pt x="36752" y="4707"/>
                </a:lnTo>
                <a:lnTo>
                  <a:pt x="38528" y="4707"/>
                </a:lnTo>
                <a:lnTo>
                  <a:pt x="38528" y="8224"/>
                </a:lnTo>
                <a:close/>
              </a:path>
              <a:path fill="darkenLess" w="68352" h="21600">
                <a:moveTo>
                  <a:pt x="33253" y="14299"/>
                </a:moveTo>
                <a:lnTo>
                  <a:pt x="35099" y="14299"/>
                </a:lnTo>
                <a:lnTo>
                  <a:pt x="35099" y="17989"/>
                </a:lnTo>
                <a:lnTo>
                  <a:pt x="39485" y="17989"/>
                </a:lnTo>
                <a:lnTo>
                  <a:pt x="39485" y="10800"/>
                </a:lnTo>
                <a:lnTo>
                  <a:pt x="28867" y="10800"/>
                </a:lnTo>
                <a:lnTo>
                  <a:pt x="28867" y="17989"/>
                </a:lnTo>
                <a:lnTo>
                  <a:pt x="33253" y="17989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slide" Target="slide12.xml"/><Relationship Id="rId12" Type="http://schemas.openxmlformats.org/officeDocument/2006/relationships/slide" Target="slide13.xml"/><Relationship Id="rId13" Type="http://schemas.openxmlformats.org/officeDocument/2006/relationships/slide" Target="slide14.xml"/><Relationship Id="rId14" Type="http://schemas.openxmlformats.org/officeDocument/2006/relationships/slide" Target="slide15.xml"/><Relationship Id="rId15" Type="http://schemas.openxmlformats.org/officeDocument/2006/relationships/slide" Target="slide16.xml"/><Relationship Id="rId16" Type="http://schemas.openxmlformats.org/officeDocument/2006/relationships/slide" Target="slide17.xml"/><Relationship Id="rId17" Type="http://schemas.openxmlformats.org/officeDocument/2006/relationships/slide" Target="slide18.xml"/><Relationship Id="rId18" Type="http://schemas.openxmlformats.org/officeDocument/2006/relationships/slide" Target="slide19.xml"/><Relationship Id="rId19" Type="http://schemas.openxmlformats.org/officeDocument/2006/relationships/slide" Target="slide20.xml"/><Relationship Id="rId20" Type="http://schemas.openxmlformats.org/officeDocument/2006/relationships/slide" Target="slide21.xml"/><Relationship Id="rId21" Type="http://schemas.openxmlformats.org/officeDocument/2006/relationships/slide" Target="slide22.xml"/><Relationship Id="rId22" Type="http://schemas.openxmlformats.org/officeDocument/2006/relationships/slide" Target="slide23.xml"/><Relationship Id="rId23" Type="http://schemas.openxmlformats.org/officeDocument/2006/relationships/slide" Target="slide29.xml"/><Relationship Id="rId24" Type="http://schemas.openxmlformats.org/officeDocument/2006/relationships/slide" Target="slide25.xml"/><Relationship Id="rId25" Type="http://schemas.openxmlformats.org/officeDocument/2006/relationships/slide" Target="slide26.xml"/><Relationship Id="rId26" Type="http://schemas.openxmlformats.org/officeDocument/2006/relationships/slide" Target="slide27.xml"/><Relationship Id="rId27" Type="http://schemas.openxmlformats.org/officeDocument/2006/relationships/slide" Target="slide2.xml"/><Relationship Id="rId28" Type="http://schemas.openxmlformats.org/officeDocument/2006/relationships/slideLayout" Target="../slideLayouts/slideLayout1.xml"/><Relationship Id="rId2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7"/>
          <p:cNvSpPr/>
          <p:nvPr/>
        </p:nvSpPr>
        <p:spPr>
          <a:xfrm>
            <a:off x="3581280" y="6095880"/>
            <a:ext cx="2133720" cy="609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P Biology AP Test Review Jeopar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304920" y="1650960"/>
            <a:ext cx="1143000" cy="70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304920" y="2463840"/>
            <a:ext cx="1143000" cy="70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3" action="ppaction://hlinksldjump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304920" y="3327480"/>
            <a:ext cx="1143000" cy="70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4" action="ppaction://hlinksldjump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304920" y="4191120"/>
            <a:ext cx="1143000" cy="70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5" action="ppaction://hlinksldjump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304920" y="5003640"/>
            <a:ext cx="1143000" cy="70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6" action="ppaction://hlinksldjump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1600200" y="1676520"/>
            <a:ext cx="1066680" cy="7034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7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1600200" y="2489040"/>
            <a:ext cx="1066680" cy="7034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8" action="ppaction://hlinksldjump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1600200" y="3327480"/>
            <a:ext cx="1066680" cy="7034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9" action="ppaction://hlinksldjump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3"/>
          <p:cNvSpPr/>
          <p:nvPr/>
        </p:nvSpPr>
        <p:spPr>
          <a:xfrm>
            <a:off x="1600200" y="4165560"/>
            <a:ext cx="1066680" cy="7034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10" action="ppaction://hlinksldjump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4"/>
          <p:cNvSpPr/>
          <p:nvPr/>
        </p:nvSpPr>
        <p:spPr>
          <a:xfrm>
            <a:off x="1600200" y="5003640"/>
            <a:ext cx="1066680" cy="7034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11" action="ppaction://hlinksldjump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5"/>
          <p:cNvSpPr/>
          <p:nvPr/>
        </p:nvSpPr>
        <p:spPr>
          <a:xfrm>
            <a:off x="2819520" y="1676520"/>
            <a:ext cx="1066680" cy="703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12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6"/>
          <p:cNvSpPr/>
          <p:nvPr/>
        </p:nvSpPr>
        <p:spPr>
          <a:xfrm>
            <a:off x="2819520" y="2489040"/>
            <a:ext cx="1066680" cy="703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13" action="ppaction://hlinksldjump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7"/>
          <p:cNvSpPr/>
          <p:nvPr/>
        </p:nvSpPr>
        <p:spPr>
          <a:xfrm>
            <a:off x="2819520" y="3327480"/>
            <a:ext cx="1066680" cy="703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14" action="ppaction://hlinksldjump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8"/>
          <p:cNvSpPr/>
          <p:nvPr/>
        </p:nvSpPr>
        <p:spPr>
          <a:xfrm>
            <a:off x="2819520" y="4165560"/>
            <a:ext cx="1066680" cy="703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15" action="ppaction://hlinksldjump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9"/>
          <p:cNvSpPr/>
          <p:nvPr/>
        </p:nvSpPr>
        <p:spPr>
          <a:xfrm>
            <a:off x="2819520" y="5003640"/>
            <a:ext cx="1066680" cy="703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16" action="ppaction://hlinksldjump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0"/>
          <p:cNvSpPr/>
          <p:nvPr/>
        </p:nvSpPr>
        <p:spPr>
          <a:xfrm>
            <a:off x="4038480" y="1676520"/>
            <a:ext cx="1143000" cy="703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17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21"/>
          <p:cNvSpPr/>
          <p:nvPr/>
        </p:nvSpPr>
        <p:spPr>
          <a:xfrm>
            <a:off x="4038480" y="2514600"/>
            <a:ext cx="1143000" cy="703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18" action="ppaction://hlinksldjump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2"/>
          <p:cNvSpPr/>
          <p:nvPr/>
        </p:nvSpPr>
        <p:spPr>
          <a:xfrm>
            <a:off x="4114800" y="3327480"/>
            <a:ext cx="1066680" cy="703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19" action="ppaction://hlinksldjump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23"/>
          <p:cNvSpPr/>
          <p:nvPr/>
        </p:nvSpPr>
        <p:spPr>
          <a:xfrm>
            <a:off x="4114800" y="4165560"/>
            <a:ext cx="1066680" cy="703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20" action="ppaction://hlinksldjump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24"/>
          <p:cNvSpPr/>
          <p:nvPr/>
        </p:nvSpPr>
        <p:spPr>
          <a:xfrm>
            <a:off x="4114800" y="5003640"/>
            <a:ext cx="1066680" cy="703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21" action="ppaction://hlinksldjump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5"/>
          <p:cNvSpPr/>
          <p:nvPr/>
        </p:nvSpPr>
        <p:spPr>
          <a:xfrm>
            <a:off x="5334120" y="1676520"/>
            <a:ext cx="1066680" cy="70344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22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6"/>
          <p:cNvSpPr/>
          <p:nvPr/>
        </p:nvSpPr>
        <p:spPr>
          <a:xfrm>
            <a:off x="6553080" y="2489040"/>
            <a:ext cx="990720" cy="64260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Times New Roman"/>
                <a:hlinkClick r:id="rId23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27"/>
          <p:cNvSpPr/>
          <p:nvPr/>
        </p:nvSpPr>
        <p:spPr>
          <a:xfrm>
            <a:off x="5334120" y="3327480"/>
            <a:ext cx="1066680" cy="70344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24" action="ppaction://hlinksldjump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28"/>
          <p:cNvSpPr/>
          <p:nvPr/>
        </p:nvSpPr>
        <p:spPr>
          <a:xfrm>
            <a:off x="5334120" y="4165560"/>
            <a:ext cx="1066680" cy="70344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25" action="ppaction://hlinksldjump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29"/>
          <p:cNvSpPr/>
          <p:nvPr/>
        </p:nvSpPr>
        <p:spPr>
          <a:xfrm>
            <a:off x="5334120" y="5003640"/>
            <a:ext cx="1066680" cy="70344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26" action="ppaction://hlinksldjump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9"/>
          <p:cNvSpPr/>
          <p:nvPr/>
        </p:nvSpPr>
        <p:spPr>
          <a:xfrm>
            <a:off x="304920" y="762120"/>
            <a:ext cx="114300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:  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40"/>
          <p:cNvSpPr/>
          <p:nvPr/>
        </p:nvSpPr>
        <p:spPr>
          <a:xfrm>
            <a:off x="1600200" y="762120"/>
            <a:ext cx="1066680" cy="5047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B: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erge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1"/>
          <p:cNvSpPr/>
          <p:nvPr/>
        </p:nvSpPr>
        <p:spPr>
          <a:xfrm>
            <a:off x="2819520" y="762120"/>
            <a:ext cx="1066680" cy="4896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: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eredity &amp; Gene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2"/>
          <p:cNvSpPr/>
          <p:nvPr/>
        </p:nvSpPr>
        <p:spPr>
          <a:xfrm>
            <a:off x="4038480" y="762120"/>
            <a:ext cx="1143000" cy="763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: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volution &amp; Diver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3"/>
          <p:cNvSpPr/>
          <p:nvPr/>
        </p:nvSpPr>
        <p:spPr>
          <a:xfrm>
            <a:off x="5334120" y="762120"/>
            <a:ext cx="1066680" cy="398880"/>
          </a:xfrm>
          <a:prstGeom prst="rect">
            <a:avLst/>
          </a:prstGeom>
          <a:solidFill>
            <a:srgbClr val="6699ff">
              <a:alpha val="6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E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l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45">
            <a:hlinkClick r:id="rId27" action="ppaction://hlinksldjump"/>
          </p:cNvPr>
          <p:cNvSpPr/>
          <p:nvPr/>
        </p:nvSpPr>
        <p:spPr>
          <a:xfrm>
            <a:off x="830592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6"/>
          <p:cNvSpPr/>
          <p:nvPr/>
        </p:nvSpPr>
        <p:spPr>
          <a:xfrm>
            <a:off x="3581280" y="61722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inal Jeopar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48"/>
          <p:cNvSpPr/>
          <p:nvPr/>
        </p:nvSpPr>
        <p:spPr>
          <a:xfrm>
            <a:off x="6553080" y="762120"/>
            <a:ext cx="990720" cy="642240"/>
          </a:xfrm>
          <a:prstGeom prst="rect">
            <a:avLst/>
          </a:prstGeom>
          <a:solidFill>
            <a:srgbClr val="cc66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: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im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49"/>
          <p:cNvSpPr/>
          <p:nvPr/>
        </p:nvSpPr>
        <p:spPr>
          <a:xfrm>
            <a:off x="7696080" y="762120"/>
            <a:ext cx="990720" cy="580680"/>
          </a:xfrm>
          <a:prstGeom prst="rect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: More Anim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50"/>
          <p:cNvSpPr/>
          <p:nvPr/>
        </p:nvSpPr>
        <p:spPr>
          <a:xfrm>
            <a:off x="7696080" y="1650960"/>
            <a:ext cx="990720" cy="642600"/>
          </a:xfrm>
          <a:prstGeom prst="rect">
            <a:avLst/>
          </a:prstGeom>
          <a:solidFill>
            <a:srgbClr val="ff5050">
              <a:alpha val="6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51"/>
          <p:cNvSpPr/>
          <p:nvPr/>
        </p:nvSpPr>
        <p:spPr>
          <a:xfrm>
            <a:off x="6553080" y="1650960"/>
            <a:ext cx="990720" cy="64260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52"/>
          <p:cNvSpPr/>
          <p:nvPr/>
        </p:nvSpPr>
        <p:spPr>
          <a:xfrm>
            <a:off x="7696080" y="2489040"/>
            <a:ext cx="990720" cy="642600"/>
          </a:xfrm>
          <a:prstGeom prst="rect">
            <a:avLst/>
          </a:prstGeom>
          <a:solidFill>
            <a:srgbClr val="ff5050">
              <a:alpha val="6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53"/>
          <p:cNvSpPr/>
          <p:nvPr/>
        </p:nvSpPr>
        <p:spPr>
          <a:xfrm>
            <a:off x="5334120" y="2514600"/>
            <a:ext cx="1066680" cy="70344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4"/>
          <p:cNvSpPr/>
          <p:nvPr/>
        </p:nvSpPr>
        <p:spPr>
          <a:xfrm>
            <a:off x="7696080" y="3327480"/>
            <a:ext cx="990720" cy="642600"/>
          </a:xfrm>
          <a:prstGeom prst="rect">
            <a:avLst/>
          </a:prstGeom>
          <a:solidFill>
            <a:srgbClr val="ff5050">
              <a:alpha val="6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5"/>
          <p:cNvSpPr/>
          <p:nvPr/>
        </p:nvSpPr>
        <p:spPr>
          <a:xfrm>
            <a:off x="6553080" y="3327480"/>
            <a:ext cx="990720" cy="64260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56"/>
          <p:cNvSpPr/>
          <p:nvPr/>
        </p:nvSpPr>
        <p:spPr>
          <a:xfrm>
            <a:off x="7696080" y="4191120"/>
            <a:ext cx="990720" cy="642600"/>
          </a:xfrm>
          <a:prstGeom prst="rect">
            <a:avLst/>
          </a:prstGeom>
          <a:solidFill>
            <a:srgbClr val="ff5050">
              <a:alpha val="6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57"/>
          <p:cNvSpPr/>
          <p:nvPr/>
        </p:nvSpPr>
        <p:spPr>
          <a:xfrm>
            <a:off x="6553080" y="4191120"/>
            <a:ext cx="990720" cy="64260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8"/>
          <p:cNvSpPr/>
          <p:nvPr/>
        </p:nvSpPr>
        <p:spPr>
          <a:xfrm>
            <a:off x="6553080" y="5029200"/>
            <a:ext cx="990720" cy="64260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9"/>
          <p:cNvSpPr/>
          <p:nvPr/>
        </p:nvSpPr>
        <p:spPr>
          <a:xfrm>
            <a:off x="7696080" y="5029200"/>
            <a:ext cx="990720" cy="642600"/>
          </a:xfrm>
          <a:prstGeom prst="rect">
            <a:avLst/>
          </a:prstGeom>
          <a:solidFill>
            <a:srgbClr val="ff5050">
              <a:alpha val="6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-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The 2 major processes of photosynthesis and the 2 reaction centers of the first process (in the order they are acti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What are light-dependent and the Calvin Cycle (or light-independent) reactions, and what are photosystems II and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-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The difference between C</a:t>
            </a:r>
            <a:r>
              <a:rPr b="1" lang="en-US" sz="3200" spc="-1" strike="noStrike" baseline="-25000">
                <a:solidFill>
                  <a:srgbClr val="0000cc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, C</a:t>
            </a:r>
            <a:r>
              <a:rPr b="1" lang="en-US" sz="3200" spc="-1" strike="noStrike" baseline="-25000">
                <a:solidFill>
                  <a:srgbClr val="0000cc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 and CAM pl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What are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C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plants that do the Calvin cycle during the day, (which may result in photorespiration on hot, dry days); C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plants that fix carbon in mesophyll cells which avoids photorespiration, and CAM plants that open stomata and fix carbon at n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-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on-cyclic vs. cyclic electron 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What is the production of ATP that uses PS II, the ETC and PSI vs. PS I, the ETC and back to PS I to generate more ATP than NADP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-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Introns and ex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What are the noncoding and coding segments of mRN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-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Stages in meiosis in which crossing over, lining up of homologues, separation of homologues, and separation of chromatids occ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What are prophase I, metaphase I, anaphase I and anaphase I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-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Forms of inheritance in wh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Traits bl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There is equal expression of 2 alle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There is interaction of many ge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Genes at one locus affect the expression of genes at another loc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An allele affects several characteristics of an org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What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Incomplete domin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Codomin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Polygenic inheri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Epist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Pleitrop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-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Restriction enzymes, plasmids, phage, recombinant D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What are enzymes that cut DNA at a specific sequence, circular DNA of bacteria, a virus that infects bacteria, and DNA containing genetic material from more than one organ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-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Epigenic inheri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What is the transmission of traits by mechanisms that do not involve changes in DNA sequenc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-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Phylogeny, homologous structures, and analogous 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What are the terms for the study of evolutionary relationships, structures in different species that evolve from a common ancestor and structures in different species that evolve independently due to environmental condi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-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Speciation that occurs when a population is divided by a geographic barrier, and speciation that occurs without a geographic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What are allopatric and sympatric speciation (respectively)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l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838080" y="1752480"/>
            <a:ext cx="754380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) Save a duplicate of this templ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2) Enter all answers and questions in the normal view. (view/norm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3) Change the category headings in the normal view (view/norm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4) View as a slidesho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5) Use the home red button after each ques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5">
            <a:hlinkClick r:id="" action="ppaction://hlinkshowjump?jump=firstslide"/>
          </p:cNvPr>
          <p:cNvSpPr/>
          <p:nvPr/>
        </p:nvSpPr>
        <p:spPr>
          <a:xfrm>
            <a:off x="1066680" y="4343400"/>
            <a:ext cx="1067040" cy="457200"/>
          </a:xfrm>
          <a:custGeom>
            <a:avLst/>
            <a:gdLst>
              <a:gd name="textAreaLeft" fmla="*/ 29520 w 1067040"/>
              <a:gd name="textAreaRight" fmla="*/ 1037520 w 10670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0389" h="21600">
                <a:moveTo>
                  <a:pt x="0" y="0"/>
                </a:moveTo>
                <a:lnTo>
                  <a:pt x="50389" y="0"/>
                </a:lnTo>
                <a:lnTo>
                  <a:pt x="50389" y="21600"/>
                </a:lnTo>
                <a:lnTo>
                  <a:pt x="0" y="21600"/>
                </a:lnTo>
                <a:close/>
              </a:path>
              <a:path fill="lightenLess" w="50389" h="21600">
                <a:moveTo>
                  <a:pt x="0" y="0"/>
                </a:moveTo>
                <a:lnTo>
                  <a:pt x="50389" y="0"/>
                </a:lnTo>
                <a:lnTo>
                  <a:pt x="48989" y="1400"/>
                </a:lnTo>
                <a:lnTo>
                  <a:pt x="1400" y="1400"/>
                </a:lnTo>
                <a:close/>
              </a:path>
              <a:path fill="darken" w="50389" h="21600">
                <a:moveTo>
                  <a:pt x="50389" y="0"/>
                </a:moveTo>
                <a:lnTo>
                  <a:pt x="50389" y="21600"/>
                </a:lnTo>
                <a:lnTo>
                  <a:pt x="48989" y="20200"/>
                </a:lnTo>
                <a:lnTo>
                  <a:pt x="48989" y="1400"/>
                </a:lnTo>
                <a:close/>
              </a:path>
              <a:path fill="darkenLess" w="50389" h="21600">
                <a:moveTo>
                  <a:pt x="503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89" y="20200"/>
                </a:lnTo>
                <a:close/>
              </a:path>
              <a:path fill="lighten" w="503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89" h="21600">
                <a:moveTo>
                  <a:pt x="25194" y="3837"/>
                </a:moveTo>
                <a:lnTo>
                  <a:pt x="27771" y="6448"/>
                </a:lnTo>
                <a:lnTo>
                  <a:pt x="27771" y="4707"/>
                </a:lnTo>
                <a:lnTo>
                  <a:pt x="29546" y="4707"/>
                </a:lnTo>
                <a:lnTo>
                  <a:pt x="29546" y="8224"/>
                </a:lnTo>
                <a:lnTo>
                  <a:pt x="32157" y="10800"/>
                </a:lnTo>
                <a:lnTo>
                  <a:pt x="30504" y="10800"/>
                </a:lnTo>
                <a:lnTo>
                  <a:pt x="30504" y="17989"/>
                </a:lnTo>
                <a:lnTo>
                  <a:pt x="19885" y="17989"/>
                </a:lnTo>
                <a:lnTo>
                  <a:pt x="19885" y="10800"/>
                </a:lnTo>
                <a:lnTo>
                  <a:pt x="18231" y="10800"/>
                </a:lnTo>
                <a:close/>
              </a:path>
              <a:path fill="darkenLess" w="50389" h="21600">
                <a:moveTo>
                  <a:pt x="27771" y="6448"/>
                </a:moveTo>
                <a:lnTo>
                  <a:pt x="27771" y="4707"/>
                </a:lnTo>
                <a:lnTo>
                  <a:pt x="29546" y="4707"/>
                </a:lnTo>
                <a:lnTo>
                  <a:pt x="29546" y="8224"/>
                </a:lnTo>
                <a:close/>
              </a:path>
              <a:path fill="darkenLess" w="50389" h="21600">
                <a:moveTo>
                  <a:pt x="24272" y="14299"/>
                </a:moveTo>
                <a:lnTo>
                  <a:pt x="26117" y="14299"/>
                </a:lnTo>
                <a:lnTo>
                  <a:pt x="26117" y="17989"/>
                </a:lnTo>
                <a:lnTo>
                  <a:pt x="30504" y="17989"/>
                </a:lnTo>
                <a:lnTo>
                  <a:pt x="30504" y="10800"/>
                </a:lnTo>
                <a:lnTo>
                  <a:pt x="19885" y="10800"/>
                </a:lnTo>
                <a:lnTo>
                  <a:pt x="19885" y="17989"/>
                </a:lnTo>
                <a:lnTo>
                  <a:pt x="24272" y="17989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1295280" y="6400800"/>
            <a:ext cx="563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Norman Herr,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-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The allele and genotype frequencies for a plant population consisting of 84% plants with red flowers and 16% white flowers (where the red allele is dominant over the whit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What are .6 dominant and .4 recessive allele frequencies, and 36% homozygous dominant, 48% heterozygous, and 16% homozygous recessive genotype frequenci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-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4 scientific areas of study that provide evidence for ev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What are (4 of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Paleont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Biogeograp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Embry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Comparative anato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Molecular bi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-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3 factors that cause evolution (or changes in allele frequenci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What are 3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Natural se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Mu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Gene f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Genetic drift (including founder effect and bottlenec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Nonrandom ma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-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The major groups of plants that include mosses, ferns, conifers and flowering plants, respectiv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What are nonvascular, seedless vascular, gymnosperms and angiosper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-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Primary growth and where on plants it occurs, and secondary growth and where it occu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What is plant growth in length that occurs at apical meristems and plant growth (in woody plants) in girth (width) that occurs in lateral meri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-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The sporophyte and gametophyte in plants and the term for the type of life cycle plants under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What are the plant and the pollen/embryo sac, and alternation of generatio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-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Photoperiodism and phytochr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What is the response of plants to changes in the relative lengths of daylight and night, and pigments that are involved in plant responses to l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-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Plant hormones that a) promote plant growth and phototropism, b) promote leaf abscission (release from the stem) and fruit ripening, c) inhibit leaf abscission and promote bud and seed dorma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What are auxins, ethylene and abscisic aci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-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Metabolic rate, endothermic vs. exotherm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What is the amount of energy an animal uses in a unit of time; what are animals that generate their own body heat vs. animals that obtain body heat from the environm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-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The processes by which gas exchange occurs between alveoli and capillaries, between capillaries and body cells and the mechanism that permits air movement into and out of the lu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What is diffusion, diffusion, and volume changes that create pressure differenc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-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The functions of smooth ER, lysosomes and peroxisomes, respectiv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What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Lipid synthesis and toxin det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Digestion of macromolecules by enzymes and an acidic environment;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Breakdown of various substances including some toxins and H2O2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-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The 3 processes involved in a human nephron to produce urine from blood, and where they occ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What are filtration (in the glomerulus), secretion (in the proximal convoluted tubules) and reabsorption (in the loop of Henle and distal convoluted tubules)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-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Steps that lead to transmission of a nerve impulse across a synapse once the action potential reaches the axon term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1" lang="en-US" sz="1600" spc="-1" strike="noStrike">
                <a:solidFill>
                  <a:srgbClr val="0000cc"/>
                </a:solidFill>
                <a:latin typeface="Times New Roman"/>
              </a:rPr>
              <a:t>What 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Release of Ca2+ into the axon term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Vesicles containing a neurotransmitter travel to the axon membr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The neurotransmitter is released into the synaptic cleft between the pre-synaptic and post-synaptic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Receptors on the post-synaptic cell bind to the neurotransmitter and the post-synaptic membrane is excited or inhibited (depending on the type of signal from the neurotransmit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The neurotransmitter is reabsorb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by the pre-synaptic cell or broken down and recyc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-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Steps to muscle contraction in a sarcom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What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ATP binds to myosin heads on the thick filaments and forms ADP +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An action potential causes Ca2+ to be released and Ca2+ binds to proteins on the thin actin filaments, exposing binding sites for myos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Myosin heads attach to binding sites on actin, forming cross bridges between the thick and thin fila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ADP + P are released and the myosin head swivels, pulling the actin inward, causing the sarcomere to contract (this is done many times causing the whole muscle to contrac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New ATP attaches to the myosin, causing the cross bridges to unbind, and the process is ready to repe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When the action potential stops, the Ca2+ is reabsorbed and the myosin binding sites on the actin are not exposed, so cross bridges cannot 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-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Stages in embryonic development after ferti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What are cleavage, (morula), blastula, and gastru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-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Coelom, gastrovascular cavity and alimentary ca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What is a fluid-filled body cavity that separates the digestive tract from the outer body wall; and what is a single opening that functions in both digestion and excretion; and what is a one-way digestive tract with 2 open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-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Agonistic behavior, taxis,  kinesis, and imprin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What is aggression or submission resulting from competition, undirected change in speed of an animal’s response to a stimulus, a directed movement in response to a stimulus, and a process for acquiring specific behavior only if an appropriate stimulus is experienced during a critical perio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-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The functions and source organ/gland for antidiuretic hormone, insulin, epinephrine and aldoster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What are regulation of water balance (posterior pituitary), decreases blood sugar levels (pancreas), fight or flight response [increase blood sugar and heart rate] (adrenal medulla), and sodium and potassium homeostasis (adrenal cortex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-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In the immune response, 2 functions of macrophages, functions of the 2 types of B cells, and functions of each of the 4 types of T 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What 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Phagocytosis and antigen presenta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cc"/>
                </a:solidFill>
                <a:uFillTx/>
                <a:latin typeface="Times New Roman"/>
              </a:rPr>
              <a:t>Plasma cell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that produce antibodies and </a:t>
            </a:r>
            <a:r>
              <a:rPr b="1" lang="en-US" sz="2400" spc="-1" strike="noStrike" u="sng">
                <a:solidFill>
                  <a:srgbClr val="0000cc"/>
                </a:solidFill>
                <a:uFillTx/>
                <a:latin typeface="Times New Roman"/>
              </a:rPr>
              <a:t>memory B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which remember the antigen the next time it attacks ;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cc"/>
                </a:solidFill>
                <a:uFillTx/>
                <a:latin typeface="Times New Roman"/>
              </a:rPr>
              <a:t>Helper T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which activate B and other T cells, </a:t>
            </a:r>
            <a:r>
              <a:rPr b="1" lang="en-US" sz="2400" spc="-1" strike="noStrike" u="sng">
                <a:solidFill>
                  <a:srgbClr val="0000cc"/>
                </a:solidFill>
                <a:uFillTx/>
                <a:latin typeface="Times New Roman"/>
              </a:rPr>
              <a:t>cytotoxic T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which destroy infected body cells, </a:t>
            </a:r>
            <a:r>
              <a:rPr b="1" lang="en-US" sz="2400" spc="-1" strike="noStrike" u="sng">
                <a:solidFill>
                  <a:srgbClr val="0000cc"/>
                </a:solidFill>
                <a:uFillTx/>
                <a:latin typeface="Times New Roman"/>
              </a:rPr>
              <a:t>suppressor T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which turn off the immune response when it has done enough, and </a:t>
            </a:r>
            <a:r>
              <a:rPr b="1" lang="en-US" sz="2400" spc="-1" strike="noStrike" u="sng">
                <a:solidFill>
                  <a:srgbClr val="0000cc"/>
                </a:solidFill>
                <a:uFillTx/>
                <a:latin typeface="Times New Roman"/>
              </a:rPr>
              <a:t>memory T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which remember the antigen the next time it attacks so the antigen can be destroyed before you realize you’ve been inf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NAL JEOPAR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3300" spc="-1" strike="noStrike">
                <a:solidFill>
                  <a:srgbClr val="0000cc"/>
                </a:solidFill>
                <a:latin typeface="Times New Roman"/>
              </a:rPr>
              <a:t>The energy-carrying molecules used in cellular respiration vs. those used in photosynthesis (include what they begin as and what they are reduced to, if applicable)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cc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Times New Roman"/>
              </a:rPr>
              <a:t>In cellular respiration, what are NAD+ to NADH, FAD to FADH2 and AT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cc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Times New Roman"/>
              </a:rPr>
              <a:t>In photosynthesis, what are NADP+ to NADPH and AT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-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Cell junctions in plant and animal cells (respectively) that permit passage of some materials from one cell to an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What are plasmodesmata and gap junctio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-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The fluid mosaic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What model describes the cell membrane as a flexible phospholipid bilayer with embedded proteins that can move somewha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Phospholipid hydrophilic heads to the out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Hydrophobic tails in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-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The mechanisms for passive and active trans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What are diffusion down a concentration gradient (passive) and use of energy to move solutes against their gradients (active)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-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Parts of a signal transduction path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What are reception, transduction and respon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The 3 steps in cellular respiration and the 2 parts of the last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What are glycolysis, the Krebs (or citric acid) cycle and oxidative phosphorylation; and what are the electron transport chain and chemiosmos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-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-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2 types of fermentation, and what organisms have these proc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What is alcohol fermentation, done by yeasts and some bacteria, and what is lactic acid fermentation, done by animal mus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3T18:19:09Z</dcterms:created>
  <dc:creator>Norman Herr</dc:creator>
  <dc:description/>
  <dc:language>en-US</dc:language>
  <cp:lastModifiedBy>nancy</cp:lastModifiedBy>
  <dcterms:modified xsi:type="dcterms:W3CDTF">2009-05-09T04:51:51Z</dcterms:modified>
  <cp:revision>59</cp:revision>
  <dc:subject/>
  <dc:title>Science Jeopardy</dc:title>
</cp:coreProperties>
</file>